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2DD-D9CB-4764-A8FA-B88B51FB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6C7-6592-467B-A32C-BFCF8816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7F5-E0DC-4F8E-9FDD-D56EE212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7E3-D4E6-4273-A82B-D31BF1A3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9D74-2509-4E65-8ACC-62319801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C093-6DD8-4C96-980B-0BC3BD7B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4081-5573-43C3-A334-6C335322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53B1-6C4C-4465-99D0-18470BB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5471-8D9C-438B-9E97-FC93AC57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7B64-2E3D-427D-BBCD-36E13A8C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72CC-206C-4E47-8DDF-FAC8BF2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807-60E7-426A-8BBE-72639B5F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F3BA-B6F9-40AC-9C5D-4E20C3E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EBDB-C32C-4260-8D9B-C9D626B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B543-DDC3-4392-BA71-63DC1D19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A3EF-CD80-4DEF-9EA9-A58F98A7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4AA9-7137-493C-A432-BCBA364A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3DD-751B-41FA-A464-2CA9C277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E42-DA59-44A6-844D-F52FA880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D3B-B596-4733-AF1F-BADA2EC4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40C-8D82-4E8D-9244-CF51AD5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7DF-98F3-406F-8442-A58A47F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D88-7C66-4621-8EEE-808143BC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4F9-CC25-4D0F-A7A6-85A9C8BD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8019-E186-4DFD-A380-2CF634E4EBB1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3497-1E6B-40B5-88DE-05626D60264A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39720" y="1447920"/>
            <a:ext cx="481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Lesson twent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840" y="2895480"/>
            <a:ext cx="61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One man in a boa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46960" y="905040"/>
            <a:ext cx="9044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What’s your favourite spor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2. Does it worry you if you don’t catch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3. Do you often fish without catching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4. Are all fishermen unluck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5. But some are, aren’t the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6. What do they catch instead of fis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7. Why do you think you are even less lucky than the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fisherme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8. Where have you spent whole morning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9. What do you always go home wit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0. What do you friends say you must do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1. What do they say about fis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2.What are you really interested 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25200" y="781200"/>
            <a:ext cx="805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Fishing—favourite s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2.often—hours—any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. some—luck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4. Instead—fish—boots—rubb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5. I—l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6. never—even—boo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7. whole mornings—river—home—emp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8. ‘give up’—frieds—’waste—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9. don’t realize—important 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0.not—interested—f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1. only—sitting--no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4120" y="835200"/>
            <a:ext cx="919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Key to summary writing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Fishing is the writer’s favourite spor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.Some unlucky fishermen catch old boot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and rubbish.Thewriter is not so luck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He never catches anything.He is no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sted in fishing. Sitting in a boat an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Doing nothing at all is the only thing that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ests him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2:03:38Z</dcterms:created>
  <dc:creator/>
  <dc:description/>
  <dc:language>en-US</dc:language>
  <cp:lastModifiedBy>钱良</cp:lastModifiedBy>
  <dcterms:modified xsi:type="dcterms:W3CDTF">2002-07-08T02:30:33Z</dcterms:modified>
  <cp:revision>1</cp:revision>
  <dc:subject/>
  <dc:title>PowerPoint 演示文稿</dc:title>
</cp:coreProperties>
</file>